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3AC-9982-400E-B8E0-4E850DEC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8E9-E847-44B8-B90A-AE0F9BC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AF5-6E92-4052-954F-75948E66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146-A618-4B1D-98A6-C37C4959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72C-F806-4AC5-8AD8-6D26E0F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AD0-5D68-475B-889B-4993F53D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B13-8651-4FE7-A36B-83C0F8B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2E5-8BF4-4F50-9F40-E9941ED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D39-3A85-457F-AF2E-456FEFF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1D8-4DF8-4681-9294-4F4C1A9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D59-341A-45DC-BF09-0589376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A87-0D63-4B26-AFFB-DF94862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03B-1993-4121-86B4-457CB317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s.sfgate.com/c/pictures/2008/04/27/cm_mcclain66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opnews.in/uploads/pregnant-woman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orgecastro.org/married_cou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4.bp.blogspot.com/_5E_qiRhuut4/THlcnHd8vUI/AAAAAAAABPE/5XrvIiX9Q7g/s1600/Liar+Lia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xe9.xanga.com/7fbf602359536239288279/b1892697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ickthebrain.com/blog/wp-content/images/feeling_embarrasse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aflion.com/wp-content/uploads/2010/08/Cheatin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521172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Let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ing a child without being married is as hard on the man as it is on the woman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" y="3505320"/>
            <a:ext cx="3426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one has good in him or her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/>
          <p:cNvPicPr/>
          <p:nvPr/>
        </p:nvPicPr>
        <p:blipFill>
          <a:blip r:embed="rId1"/>
          <a:stretch/>
        </p:blipFill>
        <p:spPr>
          <a:xfrm>
            <a:off x="3124080" y="1752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VENGE ever JUSTIFIED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  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s are private things and should never be told under any circumstance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True    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unwed mother is unfit and should not be allowed to raise her child alon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05200" y="2259000"/>
            <a:ext cx="33433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egitimate children should be adopted by a traditional married coupl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90840" y="2286000"/>
            <a:ext cx="2933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person refuses to tell the truth, it is better to keep silent than to tell a li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9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2 sides to every story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878120"/>
            <a:ext cx="518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okay to let someone else take the blame for something you are responsible for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embarrassing to be ridiculed by people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97180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love your spouse, it is okay to cheat on them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" y="2981160"/>
            <a:ext cx="4721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00:43Z</dcterms:created>
  <dc:creator>BPS</dc:creator>
  <dc:description/>
  <dc:language>en-US</dc:language>
  <cp:lastModifiedBy>BPS</cp:lastModifiedBy>
  <dcterms:modified xsi:type="dcterms:W3CDTF">2010-10-03T18:52:09Z</dcterms:modified>
  <cp:revision>13</cp:revision>
  <dc:subject/>
  <dc:title>Scarlet Letter  Anticipation Guide</dc:title>
</cp:coreProperties>
</file>